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F846-974B-4B37-93A8-C37D93BE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F3C2-5893-419A-9FD7-4083BC92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325C-BA67-4DFF-88BB-7D2521BF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F2D9-B5E3-4853-8A01-8546CBBE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4CDD-D233-46CF-B06D-BEB84071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6217-F105-489E-871A-6226789C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DE67-F612-4C4D-A425-4322EFFC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674B-E46D-407E-A295-6FA161AE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F614-D01E-4F09-A2BE-477A4008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EC86-4E3C-4E60-BBF6-37B3C8F6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3BE7-E89C-466A-A568-1288D376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DE10-47F8-46A4-8982-DB07DA32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C77C-E7DC-4D72-9E9E-BED2ED792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bp3.blogger.com/_vtFEySmtf_4/RdXmfE446nI/AAAAAAAAAG4/JpEFTroTMxc/s1600-h/ud5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7924680" cy="63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0195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Rascal at the World's Ugliest Dog Competition"/>
          <p:cNvPicPr/>
          <p:nvPr/>
        </p:nvPicPr>
        <p:blipFill>
          <a:blip r:embed="rId1"/>
          <a:stretch/>
        </p:blipFill>
        <p:spPr>
          <a:xfrm>
            <a:off x="1295280" y="1219320"/>
            <a:ext cx="655344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78168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4978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1722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14240" y="428760"/>
            <a:ext cx="771552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914400"/>
            <a:ext cx="556236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22:06:02Z</dcterms:created>
  <dc:creator> Judy Leff</dc:creator>
  <dc:description/>
  <dc:language>en-US</dc:language>
  <cp:lastModifiedBy> Judy Leff</cp:lastModifiedBy>
  <dcterms:modified xsi:type="dcterms:W3CDTF">2008-09-22T22:20:58Z</dcterms:modified>
  <cp:revision>5</cp:revision>
  <dc:subject/>
  <dc:title>Slide 1</dc:title>
</cp:coreProperties>
</file>